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620-F111-4C64-B5CC-B00DEBE5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B2B-EE73-4C6D-9B1A-25F87489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E3E-B2FC-4D89-9C03-2D0A208F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A27-FAA1-4F06-9EFD-B1666E33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0727-0974-4B71-AB0C-EFA91D76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64C7-9E42-4B4F-9437-377E1EB0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7D46-93F4-488F-99F0-088FC450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8B1D-629B-4514-9685-83C0AA28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52CF-9948-4C45-9D60-7C67C9E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8D2-DD64-47A1-934E-CA23034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2465-25FF-409A-89DF-FA481C9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FB3-E6FC-4E09-92F5-786C034B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59EF-F501-41FE-BFFB-4657400D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8263-D552-4484-8F83-A0770AC2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220A-EEE0-4821-82C1-F9498B84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F414-6B52-4B1B-86B3-5589100E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010-9EF0-4BAC-9B1E-CF00A98D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1932-E85D-4805-BEEF-4E596458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4BE2-4EF2-4171-87FC-EE474BAE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DDEEB-18A3-4683-9C78-66AC34B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62D9-1162-4353-AFAD-2D59BD9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F3CC-6EAB-4DE4-97C8-BA96F2E4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05A9-9843-4081-B15A-88A7211D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C2C4-F771-4CC2-895F-182ADDE8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5B8C-5E0D-4C18-90B4-067A65E8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E283-25A9-4679-A7E9-E3B7AA1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19ED-658E-45A0-BC37-2C97AC8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34CA-7CFE-41D7-87F1-E3C02E94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72B9B-2716-4078-B505-5C3B46E3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9F79-B373-4BAE-BD97-F060857D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DEFB-D650-4D25-A155-ECE816A5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38ED4-1A2F-44A9-A856-B07A7A1F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B777-357B-4DC1-A3A0-A944DD53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164-BC31-43F6-B7C1-4FCE9B1F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ED11-2D68-43BC-90A2-4B1E0061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88266-1549-4A32-A0B2-9DAAD0A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7C5E4-2933-4002-9764-3F50DA99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CB02-CD71-4E63-8A1E-132CFA06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28F7-EEB9-42B9-8781-650DC7D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69CC-9D9E-4F56-8613-EAE568C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A4271-7AFF-4261-8562-6631DE6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D67E-3668-42A2-9027-F6F7F6E5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C36B-E0F9-47AE-A69A-D7B3E98A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701EE-EF9F-4BED-AF9F-2C088149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1E3-D919-4559-88EA-12AB324A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B833A-DD5B-4D3B-8EF5-103F655A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E0187-D226-470F-9696-B445603E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87119-1649-41B7-BCB4-4B40C76D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C7A7B-A9EE-46C1-8DF5-09315D2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2D39D-5444-4283-A8BE-4C60A594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4173-C1BF-41EC-9093-10297642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FDB5-72B3-4EE7-A45C-689AA95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25412-C965-4558-90E3-3FEDF7F0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951D7-72EB-4A03-B8C5-AAC99A5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2AB01-C213-4739-BC45-674C6321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F88-FD2A-4FD4-9CEE-284A6660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A346-05F1-45E0-BCBF-8D8208ED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441-6597-45A1-A8BD-D44FE24E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2526-465A-4902-B3DC-6CD670D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587-928C-4262-AE82-EF310B6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24E3-A83F-4EE7-80CA-6CB1089FA1F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AF73-7A0E-4BE1-8724-9CB96B581B1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43E9-68CC-4D93-93E3-132A10F34DE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4E55-3962-47EF-BAFA-110053B6A904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B573-12F8-4A6B-9F19-3D238DDC8D6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-6480" y="420840"/>
            <a:ext cx="9156960" cy="193176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9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1915920" cy="1823760"/>
          </a:xfrm>
          <a:prstGeom prst="rect">
            <a:avLst/>
          </a:prstGeom>
          <a:ln w="0">
            <a:noFill/>
          </a:ln>
        </p:spPr>
      </p:pic>
      <p:pic>
        <p:nvPicPr>
          <p:cNvPr id="222" name="Содержимое 12" descr=""/>
          <p:cNvPicPr/>
          <p:nvPr/>
        </p:nvPicPr>
        <p:blipFill>
          <a:blip r:embed="rId3"/>
          <a:srcRect l="0" t="0" r="71524" b="0"/>
          <a:stretch/>
        </p:blipFill>
        <p:spPr>
          <a:xfrm>
            <a:off x="593640" y="2346480"/>
            <a:ext cx="1817640" cy="1552320"/>
          </a:xfrm>
          <a:prstGeom prst="rect">
            <a:avLst/>
          </a:prstGeom>
          <a:ln w="0">
            <a:noFill/>
          </a:ln>
        </p:spPr>
      </p:pic>
      <p:pic>
        <p:nvPicPr>
          <p:cNvPr id="223" name="Содержимое 13" descr=""/>
          <p:cNvPicPr/>
          <p:nvPr/>
        </p:nvPicPr>
        <p:blipFill>
          <a:blip r:embed="rId4"/>
          <a:srcRect l="50117" t="0" r="0" b="0"/>
          <a:stretch/>
        </p:blipFill>
        <p:spPr>
          <a:xfrm>
            <a:off x="5292720" y="2421000"/>
            <a:ext cx="23274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Содержимое 14" descr=""/>
          <p:cNvPicPr/>
          <p:nvPr/>
        </p:nvPicPr>
        <p:blipFill>
          <a:blip r:embed="rId5"/>
          <a:srcRect l="5620" t="0" r="70675" b="0"/>
          <a:stretch/>
        </p:blipFill>
        <p:spPr>
          <a:xfrm>
            <a:off x="5724360" y="4365720"/>
            <a:ext cx="1905120" cy="18619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5" descr=""/>
          <p:cNvPicPr/>
          <p:nvPr/>
        </p:nvPicPr>
        <p:blipFill>
          <a:blip r:embed="rId6"/>
          <a:srcRect l="51464" t="0" r="0" b="0"/>
          <a:stretch/>
        </p:blipFill>
        <p:spPr>
          <a:xfrm>
            <a:off x="539640" y="4221000"/>
            <a:ext cx="2376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3"/>
          <p:cNvSpPr/>
          <p:nvPr/>
        </p:nvSpPr>
        <p:spPr>
          <a:xfrm>
            <a:off x="0" y="260280"/>
            <a:ext cx="7961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 Math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 Math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читайте заработную плату строителя, продавца, оплачиваемого по простой повременно-премиальной форме оплаты труд, если тарифная (часовая) ставка составляет для строителя 720 рублей, для продавца 380 рублей. Строитель отработал 28 часов и получил премию в размере 25 % от з/п и продавец отработал 36 часов и получил премию в размере 30 % от з/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2700360" y="26028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2c64"/>
                </a:solidFill>
                <a:latin typeface="Cambria Math"/>
              </a:rPr>
              <a:t>Задача строите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Строитель нужно сделать конструкцию длиной 120 м. В первый день он выполнил 25% всей конструкции. Во второй день 30% остатка. Сколько метров ему осталось изготовить в 3 д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2700360" y="3573360"/>
            <a:ext cx="489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 Math"/>
              </a:rPr>
              <a:t>Задача продавца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 Math"/>
              </a:rPr>
              <a:t>Сапоги стоили 5200 руб. В начале сезона цену повысили на 25%, в конце сезона снизили на 30%. Сколько теперь стоят сапог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Содержимое 9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1916280" cy="182268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13" descr=""/>
          <p:cNvPicPr/>
          <p:nvPr/>
        </p:nvPicPr>
        <p:blipFill>
          <a:blip r:embed="rId2"/>
          <a:srcRect l="50117" t="0" r="0" b="0"/>
          <a:stretch/>
        </p:blipFill>
        <p:spPr>
          <a:xfrm>
            <a:off x="324000" y="3933720"/>
            <a:ext cx="2327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1"/>
          <a:srcRect l="19290" t="0" r="13776" b="80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-30240" y="404640"/>
            <a:ext cx="917424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Сегодня я узнал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Было интересн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Было трудн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Я понял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Я научил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Теперь я могу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У меня появилось желани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mbria Math"/>
              </a:rPr>
              <a:t>Урок дал мне 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3:08:05Z</dcterms:created>
  <dc:creator>Q</dc:creator>
  <dc:description/>
  <dc:language>en-US</dc:language>
  <cp:lastModifiedBy>Пользователь</cp:lastModifiedBy>
  <dcterms:modified xsi:type="dcterms:W3CDTF">2025-01-15T02:42:00Z</dcterms:modified>
  <cp:revision>84</cp:revision>
  <dc:subject/>
  <dc:title>Математика в моей профессии</dc:title>
</cp:coreProperties>
</file>